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3451-AA85-4ABE-8357-92C6BBA2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12B9-6F42-45A7-88D1-ABE9F27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654B4-282D-4301-B323-C828F68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F672-078F-4B39-8925-1807AA52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8BD08-40EE-4712-AAAD-A58E93B2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4BFB7-8C1F-4522-83B8-3C23B4E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2371-F50E-4983-8BCF-C2DD3ECA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5AB57-5432-46A1-AACE-F4BB5CE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9ADB4-3CF6-4CE9-9BA4-25B98D6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B394F-466F-4DA9-A5E9-619577A9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A440-13E1-4096-B26E-3463D4A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F6760-33C9-4EAD-9C66-042A1D26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B8A9-01EB-49E8-BC7F-949AF2B6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DE88B-133E-45CE-BD84-9E0938FC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06ECF-1A6F-4B6C-84B1-B1DEB7E7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84398-8852-48ED-8269-E4FFFBB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2FDE1-E09D-4BDB-8CA3-421A682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40E61-171D-4C0A-B438-FFF7B252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D04FB-18C7-47BB-BC89-CFD33CF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2FF2-FE78-4044-9AE9-77D44A6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A61AA-891E-40CD-9CCE-DE11D79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B0ACF-AD18-4692-9EB5-7186F12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9C25A-9FA3-4F6C-B1FC-57AB7F03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FB42-328D-43EF-957C-684CD57C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9D267-0FC6-4DD8-AA94-A263D10B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E155-41FC-4B9C-8F7F-DA1C48E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5775-7E36-4ADA-9251-E7FBED5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1A8D4-AEB8-4D3C-AEA9-32AE93B2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D977D-1E78-4DF7-94D2-66F4F0C4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0383-A36D-492B-A570-AE4CC85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D3B7F-3AF4-4E58-A7CE-F49B9A4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3AEF6-E6FF-4335-B4F7-DD88C2B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2CEC-DDD7-4535-A5CD-352FDE4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7F96F-8410-4369-917D-C53F093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B3C-5823-4518-9FCB-5D76A7E7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79E16-6150-43FB-B5D5-D5A34A6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F7FC-1E1F-4B78-996D-018D999E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709E-3BF2-441E-B99E-8BACD4E2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75995-4B4F-4155-AC71-5329811B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8389-65B6-4CBA-80A1-80E3A72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86E61-2D08-4500-A980-E7207D81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BF849-BD1D-483E-A4C3-51102B5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1D49E-B370-46BD-BEC9-16095AAB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8CACC-E5D6-4FCE-9B61-1154EF4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11F7C-C0B8-4B58-A04B-CA1E83C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61F-1884-49DD-B20E-A30B31F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7D044-5534-42E0-A0F3-FCBB0BE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B7608-EA2A-4C9A-BFA4-122C339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E5534-5253-431D-8DFB-E0178A9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2F3B8-0D0B-4FA1-B7BC-68DC79D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21FC6-72C2-4474-ADA7-6973E10E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0D4E0-4FDF-4275-ACF5-906D19D5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A3E85-3BB7-4546-9E05-4541D34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2D685-CA3B-4FFE-B07E-3EB235D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2302C-757E-4076-AEB3-BDA58D79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864B8-44F7-4B1B-8952-4A33725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8522-AC92-49AE-8A57-E9ABA695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12CBC-7719-4A8B-B0DD-4210E34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272BB-3A67-4C50-AFCF-6FE18DF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495BF-75C1-4D31-AC10-50E4890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30B5F-140A-4789-AA69-7AC9761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0867C-3A35-4E19-A6A0-8A7D66C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4794A-46F5-472A-820A-CF1DDB41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BF34D-2B97-464E-82DB-C9B2EE4A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BAA2B-9544-4CF1-B7F2-BECDB78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E498B-67A0-4903-AC2F-23378AF9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A90DA-E891-4A4F-A9BA-B6F8F40F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F72-3D2F-4F1A-AC54-F357DCC5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BDD3F-D1B6-4517-B056-5F704CEF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4DE6E-A325-4645-8581-D2FBB82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D3A13-D662-427C-B4ED-88A2310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339DA-1FE2-4F1D-A6F8-FC60155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2DA45-128D-4F49-A82C-7C1A5B7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F21BF-8BEF-4887-8BA1-B5934C2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AF320-5E19-4146-80F4-0E2B8E8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D77A8-E3D7-4B92-B5A9-023EA6E0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7B98C-4D24-4E2C-8B4D-316E243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C336-FD81-4852-860A-1ADD049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8437-BDE9-4B35-AAAC-58595656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E030-DD60-4EBB-A6B4-9AA67473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0A20-6F0C-4719-A7A6-F8AC46C4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BE1-CA63-41FC-ADA7-854EDD4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5A1D-5719-4DBB-A899-DE32DC3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160-D657-4D43-A7BF-C9925AC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C63A-870A-494F-A699-E5F3F5BC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A05-8BB3-4164-9D4C-715F275E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669F-35B2-4FDB-945A-BB3CE417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B79B-6661-4594-9345-DF8E03DE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446C-C806-4764-9AFE-F95D7F0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6D6F-CF4B-4C12-8024-AD0BBFC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4AE0-69BE-477B-8FAD-42E48192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0A60-5763-4502-BE3D-203688DF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29B1-11BF-48F1-B0F0-86E631F2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0A63-83F5-465E-98D9-11F7315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5468-617C-4A9F-9C33-7F9083B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4E8E-3F70-4E6E-8923-585BF29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E968-25D6-426C-9899-67FF3C55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1EEB-16B1-437D-AB15-BAFC2D34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58FE-3888-49B5-9C31-8FDA419E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CE993-F7C8-4B5C-A401-2BB2D2BF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1232A-948B-4BCB-8ACB-BE14FCA1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8935A-5258-4772-BD29-0E83C73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FA1F-662B-4587-8D09-5623170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6AA0E-14B4-42FA-B5A6-6A22FA5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B6D19-B4BB-49E8-8590-43429FE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61D0-0FC5-40EC-95FF-6FB30ED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6F0C6-A106-42AC-81C3-60E5C85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B4575-A77D-4490-B3A7-9E983B3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774D9-DC13-41F7-A6E3-6E38285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FEC90-2B3B-4D57-8A68-403D983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1F0C5-6CC6-427E-BDD1-ADDDD91C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8BC25-7E9C-4124-90B1-F3F5DF1A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6135-5019-44E4-B601-9E7BCC7F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3245-335B-4EFD-900C-563EABB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E123-B63A-4EC8-8CE3-2B9937F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C644-4529-48F0-8DED-52F655CF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E003-A999-4477-8C33-C8E16DA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BC6A-BEF1-42D8-AF94-627661C8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C66F-8048-4FB4-8760-10FDA63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130C-6C65-4F4C-A974-C5DBCDD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07BF-E3DF-4F53-9372-2FDB8785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2FC6-98C3-44E1-B275-CFF4E03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F140-CE3B-460B-9C4F-05716BDB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3965-C14A-4255-837C-A0775E95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EB37-40A1-4655-8C82-EE54949C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16CC-B880-4B36-87EF-EBAD0506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4E9F5-1D7D-40F7-8955-5A9B4CBE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5BB1B-C8B2-4698-99C4-DF70740B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4F1A2-CC95-4FDF-83F5-FBC604D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148B6-3FFB-43A9-B0AD-36DED33F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1168A-3DA0-42BA-90A2-4E22D8EA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1F059-1B1C-4DEC-B6C0-A58E604A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84C21-6CBC-46F1-9A33-57164CF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14C9B-FC14-404C-A067-8A17C96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FF3AF-3220-4C1A-8E71-0755155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214C-B55D-4B86-B484-3A1A811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598F8-632B-41DE-935B-71735779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FA481-6625-4E63-94CA-A2D19F76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76AC9-6F0C-44D4-AA52-6B033EA6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4812-AF52-4BB2-B5D6-95591FB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5D3A0-6709-4833-A101-F2C7486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D4BE-CB31-4875-B982-C68F3E9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01E5-1B27-4402-B0AA-F013C38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58EA-1B9D-4F24-998B-CE0178B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3FBA-EFDB-4C98-B8F6-096AAA72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CB95-F7C4-4BD6-9355-C66EABA4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A396-043D-4568-A583-3EEE788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8DD9-6DF4-4C97-B26D-36AA7076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B526-C6C1-4C7F-9E4A-D98B876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9933-27A9-4C83-9307-D5A42B0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C121-B762-4331-9374-4BF19F51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4D67-4F0F-4218-8D0F-F57D62BF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2CEF-E00E-4D15-B903-122C7001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EB20-8D5B-40DE-B0DA-E227EE7B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8187-2642-462B-A21B-3B3EFE6C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DC12-8A0E-497B-92D4-E757960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9E70-4059-4BF7-8A95-55270D7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ABEB-A8E6-4695-8D93-6D8AEFA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F9A7-29BF-40AC-B409-ACA009D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70BE-27DF-42FB-8FBC-84F13A6E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9ED3-102E-40C9-9989-F9E49C7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2062-D7EC-4A40-AA13-533B678B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89223-89EB-43F4-ADBF-BC3B3D54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4865-8B4F-40E2-97BC-E3E2E88F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05C9-E317-497B-ACD7-C5ECEB5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F4CA3-25C2-4B04-B948-95406623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BC5A7-37F7-4C72-A8E6-6B68B5B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320C9-55B8-4326-B05C-B6F5C221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25A-A032-4119-A513-2611C95DA5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8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8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51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8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DCD-6A60-4BC0-90E2-ECEE02ACA2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9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3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225-0F13-4994-9804-E520F29148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B556-DA46-4B43-A471-944A7349F4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409-6309-421F-B956-A274109213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586-A5EF-418F-9E80-A2C65486A3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E38-46D5-4FCC-B13B-FC36511908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2308-DB39-4A91-9CFB-9B39DA2F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C7B-3A3C-4454-83E3-9813F4C9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534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534"/>
                </a:gs>
                <a:gs pos="100000">
                  <a:srgbClr val="0075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75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aeac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a4a2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C35-6D76-4299-90A0-0B834AA2E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534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534"/>
                </a:gs>
                <a:gs pos="100000">
                  <a:srgbClr val="0075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75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aeac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a4a2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8CE-EC4E-4A20-9C7C-4F094563B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84F-C422-4B9F-BA66-BD1F30AC373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51E3-33B1-48E9-91C9-9CB8F5E717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8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7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51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8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580F-13C9-45ED-9BCC-8096EADB6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adley Hand ITC"/>
              </a:rPr>
              <a:t>Mi  Mansi</a:t>
            </a:r>
            <a:r>
              <a:rPr b="0" lang="en-US" sz="4800" spc="-1" strike="noStrike">
                <a:solidFill>
                  <a:srgbClr val="ffffcc"/>
                </a:solidFill>
                <a:latin typeface="Bradley Hand ITC"/>
                <a:ea typeface="Tahoma"/>
              </a:rPr>
              <a:t>ó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Por Neha Shab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 un garaje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Es moderno y magni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Rockwell Extra Bold"/>
              </a:rPr>
              <a:t>Gracias por mirar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276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Es una mansi</a:t>
            </a:r>
            <a:r>
              <a:rPr b="0" lang="en-US" sz="4400" spc="-1" strike="noStrike">
                <a:solidFill>
                  <a:srgbClr val="ffffff"/>
                </a:solidFill>
                <a:latin typeface="Rockwell Extra Bold"/>
                <a:ea typeface="Tahoma"/>
              </a:rPr>
              <a:t>ó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estupenda, moderna, y luj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Curlz MT"/>
              </a:rPr>
              <a:t>Es una cocina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s impresionante, magnifica,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El un comedo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ookman Old Style"/>
              </a:rPr>
              <a:t>Es muy antiguo y boni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029200" cy="334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Felix Titling"/>
              </a:rPr>
              <a:t>Es una sala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 relajante y fres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astellar"/>
              </a:rPr>
              <a:t>Es un baño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nsolas"/>
              </a:rPr>
              <a:t>Es muy grande, lujoso, y nuev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4800600" cy="31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pperplate Gothic Bold"/>
              </a:rPr>
              <a:t>Es un cuarto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andara"/>
              </a:rPr>
              <a:t>Es impresionante, fabuloso,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Extra Bold"/>
              </a:rPr>
              <a:t>Es un patio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s simple y ún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25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Es un jardin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s un bonito y estup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2400120" cy="166356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155736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8:11Z</dcterms:created>
  <dc:creator>shabeerneh</dc:creator>
  <dc:description/>
  <dc:language>en-US</dc:language>
  <cp:lastModifiedBy>shabeerneh</cp:lastModifiedBy>
  <dcterms:modified xsi:type="dcterms:W3CDTF">2013-04-04T17:15:56Z</dcterms:modified>
  <cp:revision>10</cp:revision>
  <dc:subject/>
  <dc:title>Mi  Mansión</dc:title>
</cp:coreProperties>
</file>